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F24A-0610-413E-B6E4-5B787FC94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s://docs.google.com/drawings/d/1kDxDf0yDuSFjjEgE34wyKQCgx1Gbzlyp8DujqUHojbg/ed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C12-AE68-46E6-A02C-A7CB7E82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7697-45DF-471C-A563-EE23CB96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C034-5FA1-4567-8D45-350B6485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5B71-B8B4-4D61-BC0C-66B69119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555A-58B7-4F8E-AA96-9F09DCCF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C48A-4834-4B7B-9A14-E96416B2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DDF5-C725-42F8-8F1D-2722BF6B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C520-7AB1-4205-80C0-2313DC0A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6A68-F889-42EF-981B-2E3C3307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4D6F-FC03-4888-BAA9-F4DD80F0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4BEC-7B36-4070-8773-29B612B5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78FE-84C8-43CC-B0B2-9FF14279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27B6-82D3-4E77-BD67-93820036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0C08-C470-4B5E-B432-37831520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0100-C0A9-4AC0-9951-6614B697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FA90-F9CF-4D74-963A-93288DE6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5613-110F-47FA-BD59-310E95E5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484C-421B-40B1-86CA-9220049F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9C7-1423-4029-A25C-AA90DB81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E170-9CC9-4E35-ABD5-7EAB7284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846-EC50-44CD-8A81-D527E07C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5305-4CCF-4B03-8920-2DFF8407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764C-633F-4074-A4C2-87CF469E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4F5A-F5DE-4ABD-9417-215B671C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8DE7-B7C9-4EFA-8B1A-E2477774C3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8" name="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C0D5-95B6-41B5-BB22-6D67ECC47D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1906560" y="3645000"/>
            <a:ext cx="5330880" cy="199800"/>
            <a:chOff x="1906560" y="3645000"/>
            <a:chExt cx="5330880" cy="199800"/>
          </a:xfrm>
        </p:grpSpPr>
        <p:sp>
          <p:nvSpPr>
            <p:cNvPr id="53" name=""/>
            <p:cNvSpPr/>
            <p:nvPr/>
          </p:nvSpPr>
          <p:spPr>
            <a:xfrm>
              <a:off x="4043520" y="3645000"/>
              <a:ext cx="3193920" cy="19980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6560" y="3646440"/>
              <a:ext cx="2017800" cy="19656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74520" algn="ctr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6192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724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i.opasnet.org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fi.opasnet.org/fi/Minera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fi.opasnet.org/fi/Minera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Terveysvaikutusten arviointi Minera-hankkees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uni Tuomisto, THL, Kuop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neran tuotosten aikataulu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Joitakin toiminnallisuuksia on jo nyt vapaasti käytettävissä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erkkotyötila (Opasnet: </a:t>
            </a:r>
            <a:r>
              <a:rPr b="0" lang="fi-FI" sz="2400" spc="-1" strike="noStrike" u="sng">
                <a:solidFill>
                  <a:srgbClr val="6bc9c7"/>
                </a:solidFill>
                <a:uFillTx/>
                <a:latin typeface="Arial"/>
                <a:hlinkClick r:id="rId1"/>
              </a:rPr>
              <a:t>http://fi.opasnet.org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simerkkejä terveysvaikutusarvioinneista muista aiheista (radon sisäilmassa, helleaallot, sikainfluenssa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onnos kaivoksen pölypäästöjen laskentamall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oiminnallisuuksia, ohjeistusta ja laskentamoduleita lisätään koko aj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ineran päätuotteet kaivoksiin liittyen käytettävissä loppuvuodesta 201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Jatkokehitystä tehdään muissa projekteis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Esimerkki päästölaskennasta: hihnakuljetusten pölypäästö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66920" y="259920"/>
            <a:ext cx="2808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Esimerkki päästö-laskennasta: hihna-kuljetusten pölypäästöt: lasken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7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Hihnakuljetusten pölypäästöt: tuloksi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0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Hihnakuljetusten pölypäästöt: laskentamall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328760"/>
            <a:ext cx="91440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otiinvientiviest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ineran työtä voi testata, kommentoida ja ehdottaa parannuksia netissä: 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"/>
              </a:rPr>
              <a:t>http://fi.opasnet.org/fi/Minera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neran pääsivu </a:t>
            </a:r>
            <a:r>
              <a:rPr b="1" lang="fi-FI" sz="3000" spc="-1" strike="noStrike" u="sng">
                <a:solidFill>
                  <a:srgbClr val="6bc9c7"/>
                </a:solidFill>
                <a:uFillTx/>
                <a:latin typeface="Arial"/>
                <a:hlinkClick r:id="rId1"/>
              </a:rPr>
              <a:t>http://fi.opasnet.org/fi/Minera</a:t>
            </a: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1328760"/>
            <a:ext cx="9144000" cy="5529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>
            <a:off x="3850920" y="5589720"/>
            <a:ext cx="865080" cy="50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219280" y="6021360"/>
            <a:ext cx="865080" cy="50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riskinhallinta: yleiskuv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26920" y="1989000"/>
            <a:ext cx="7632720" cy="4176720"/>
            <a:chOff x="826920" y="1989000"/>
            <a:chExt cx="7632720" cy="4176720"/>
          </a:xfrm>
        </p:grpSpPr>
        <p:sp>
          <p:nvSpPr>
            <p:cNvPr id="147" name=""/>
            <p:cNvSpPr/>
            <p:nvPr/>
          </p:nvSpPr>
          <p:spPr>
            <a:xfrm>
              <a:off x="826920" y="1989000"/>
              <a:ext cx="7632720" cy="417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2484000" y="2205000"/>
              <a:ext cx="5329800" cy="3527640"/>
              <a:chOff x="2484000" y="2205000"/>
              <a:chExt cx="5329800" cy="35276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2771280" y="4221000"/>
                <a:ext cx="505440" cy="1440000"/>
                <a:chOff x="2771280" y="4221000"/>
                <a:chExt cx="505440" cy="14400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835000" y="4221000"/>
                  <a:ext cx="37836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024000" y="459828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2866320" y="5146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024000" y="5146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2771280" y="5661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182040" y="5661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>
                  <a:off x="2802960" y="4735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024000" y="4735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7308360" y="3284640"/>
                <a:ext cx="505440" cy="1439640"/>
                <a:chOff x="7308360" y="3284640"/>
                <a:chExt cx="505440" cy="14396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372080" y="3284640"/>
                  <a:ext cx="378360" cy="376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561080" y="366156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7403400" y="420948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561080" y="420948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7308360" y="472428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719120" y="472428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7340040" y="379836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561080" y="379836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2484000" y="2637000"/>
                <a:ext cx="505440" cy="1439640"/>
                <a:chOff x="2484000" y="2637000"/>
                <a:chExt cx="505440" cy="14396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547720" y="2637000"/>
                  <a:ext cx="378360" cy="376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736720" y="301392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>
                  <a:off x="2579040" y="356184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736720" y="356184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>
                  <a:off x="2484000" y="407664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894760" y="407664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>
                  <a:off x="2515680" y="3150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736720" y="3150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419640" y="2349360"/>
                <a:ext cx="504360" cy="1440000"/>
                <a:chOff x="3419640" y="2349360"/>
                <a:chExt cx="504360" cy="14400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483000" y="2349360"/>
                  <a:ext cx="37800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672000" y="272664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3513960" y="327456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672000" y="327456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>
                  <a:off x="3419640" y="378936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829680" y="378936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3450960" y="286344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672000" y="286344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716000" y="2205000"/>
                <a:ext cx="505440" cy="1440000"/>
                <a:chOff x="4716000" y="2205000"/>
                <a:chExt cx="505440" cy="14400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4779720" y="2205000"/>
                  <a:ext cx="37836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968720" y="258228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4811040" y="3130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968720" y="3130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>
                  <a:off x="4716000" y="3645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126760" y="3645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>
                  <a:off x="4747680" y="2719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968720" y="2719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796000" y="4292640"/>
                <a:ext cx="504360" cy="1440000"/>
                <a:chOff x="5796000" y="4292640"/>
                <a:chExt cx="504360" cy="14400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59360" y="4292640"/>
                  <a:ext cx="37800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048360" y="466992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5890320" y="521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048360" y="521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5796000" y="573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206040" y="573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5827320" y="480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048360" y="480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6372360" y="2852640"/>
                <a:ext cx="504360" cy="1440000"/>
                <a:chOff x="6372360" y="2852640"/>
                <a:chExt cx="504360" cy="14400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6435720" y="2852640"/>
                  <a:ext cx="37800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624720" y="322992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6466680" y="377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624720" y="377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>
                  <a:off x="6372360" y="429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782400" y="429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6403680" y="336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624720" y="336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2" name=""/>
          <p:cNvGrpSpPr/>
          <p:nvPr/>
        </p:nvGrpSpPr>
        <p:grpSpPr>
          <a:xfrm>
            <a:off x="3214800" y="3933720"/>
            <a:ext cx="2220840" cy="1656000"/>
            <a:chOff x="3214800" y="3933720"/>
            <a:chExt cx="2220840" cy="1656000"/>
          </a:xfrm>
        </p:grpSpPr>
        <p:grpSp>
          <p:nvGrpSpPr>
            <p:cNvPr id="213" name=""/>
            <p:cNvGrpSpPr/>
            <p:nvPr/>
          </p:nvGrpSpPr>
          <p:grpSpPr>
            <a:xfrm>
              <a:off x="4284720" y="3933720"/>
              <a:ext cx="1150920" cy="1656000"/>
              <a:chOff x="4284720" y="3933720"/>
              <a:chExt cx="1150920" cy="1656000"/>
            </a:xfrm>
          </p:grpSpPr>
          <p:sp>
            <p:nvSpPr>
              <p:cNvPr id="214" name=""/>
              <p:cNvSpPr/>
              <p:nvPr/>
            </p:nvSpPr>
            <p:spPr>
              <a:xfrm>
                <a:off x="4284720" y="3933720"/>
                <a:ext cx="1150920" cy="165600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643280" y="443700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500720" y="4149720"/>
                <a:ext cx="6476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572000" y="5013360"/>
                <a:ext cx="647640" cy="43164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643280" y="5157720"/>
                <a:ext cx="505080" cy="216000"/>
              </a:xfrm>
              <a:custGeom>
                <a:avLst/>
                <a:gdLst/>
                <a:ahLst/>
                <a:rect l="l" t="t" r="r" b="b"/>
                <a:pathLst>
                  <a:path w="318" h="136">
                    <a:moveTo>
                      <a:pt x="0" y="136"/>
                    </a:moveTo>
                    <a:lnTo>
                      <a:pt x="91" y="0"/>
                    </a:lnTo>
                    <a:lnTo>
                      <a:pt x="136" y="90"/>
                    </a:lnTo>
                    <a:lnTo>
                      <a:pt x="318" y="45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643280" y="458136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643280" y="472428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43280" y="486900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14800" y="4037040"/>
              <a:ext cx="1012680" cy="150840"/>
            </a:xfrm>
            <a:custGeom>
              <a:avLst/>
              <a:gdLst/>
              <a:ahLst/>
              <a:rect l="l" t="t" r="r" b="b"/>
              <a:pathLst>
                <a:path w="638" h="95">
                  <a:moveTo>
                    <a:pt x="0" y="95"/>
                  </a:moveTo>
                  <a:cubicBezTo>
                    <a:pt x="45" y="80"/>
                    <a:pt x="164" y="6"/>
                    <a:pt x="270" y="3"/>
                  </a:cubicBezTo>
                  <a:cubicBezTo>
                    <a:pt x="376" y="0"/>
                    <a:pt x="561" y="62"/>
                    <a:pt x="638" y="77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032480" y="3680640"/>
            <a:ext cx="1494720" cy="1436040"/>
            <a:chOff x="1032480" y="3680640"/>
            <a:chExt cx="1494720" cy="1436040"/>
          </a:xfrm>
        </p:grpSpPr>
        <p:sp>
          <p:nvSpPr>
            <p:cNvPr id="224" name=""/>
            <p:cNvSpPr/>
            <p:nvPr/>
          </p:nvSpPr>
          <p:spPr>
            <a:xfrm rot="5853000">
              <a:off x="1259280" y="3572640"/>
              <a:ext cx="792000" cy="1152360"/>
            </a:xfrm>
            <a:prstGeom prst="can">
              <a:avLst>
                <a:gd name="adj" fmla="val 25000"/>
              </a:avLst>
            </a:prstGeom>
            <a:solidFill>
              <a:srgbClr val="7bc14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49480" y="4483080"/>
              <a:ext cx="477720" cy="633600"/>
            </a:xfrm>
            <a:custGeom>
              <a:avLst/>
              <a:gdLst/>
              <a:ahLst/>
              <a:rect l="l" t="t" r="r" b="b"/>
              <a:pathLst>
                <a:path w="301" h="399">
                  <a:moveTo>
                    <a:pt x="0" y="0"/>
                  </a:moveTo>
                  <a:cubicBezTo>
                    <a:pt x="19" y="3"/>
                    <a:pt x="40" y="1"/>
                    <a:pt x="56" y="10"/>
                  </a:cubicBezTo>
                  <a:cubicBezTo>
                    <a:pt x="66" y="16"/>
                    <a:pt x="73" y="105"/>
                    <a:pt x="75" y="112"/>
                  </a:cubicBezTo>
                  <a:cubicBezTo>
                    <a:pt x="84" y="147"/>
                    <a:pt x="122" y="148"/>
                    <a:pt x="56" y="130"/>
                  </a:cubicBezTo>
                  <a:cubicBezTo>
                    <a:pt x="50" y="121"/>
                    <a:pt x="33" y="112"/>
                    <a:pt x="38" y="102"/>
                  </a:cubicBezTo>
                  <a:cubicBezTo>
                    <a:pt x="42" y="93"/>
                    <a:pt x="72" y="105"/>
                    <a:pt x="65" y="112"/>
                  </a:cubicBezTo>
                  <a:cubicBezTo>
                    <a:pt x="51" y="126"/>
                    <a:pt x="28" y="124"/>
                    <a:pt x="10" y="130"/>
                  </a:cubicBezTo>
                  <a:cubicBezTo>
                    <a:pt x="1" y="133"/>
                    <a:pt x="38" y="121"/>
                    <a:pt x="38" y="121"/>
                  </a:cubicBezTo>
                  <a:cubicBezTo>
                    <a:pt x="41" y="112"/>
                    <a:pt x="54" y="100"/>
                    <a:pt x="47" y="93"/>
                  </a:cubicBezTo>
                  <a:cubicBezTo>
                    <a:pt x="40" y="86"/>
                    <a:pt x="21" y="92"/>
                    <a:pt x="19" y="102"/>
                  </a:cubicBezTo>
                  <a:cubicBezTo>
                    <a:pt x="16" y="113"/>
                    <a:pt x="28" y="126"/>
                    <a:pt x="38" y="130"/>
                  </a:cubicBezTo>
                  <a:cubicBezTo>
                    <a:pt x="61" y="139"/>
                    <a:pt x="87" y="137"/>
                    <a:pt x="112" y="140"/>
                  </a:cubicBezTo>
                  <a:cubicBezTo>
                    <a:pt x="132" y="201"/>
                    <a:pt x="78" y="174"/>
                    <a:pt x="38" y="167"/>
                  </a:cubicBezTo>
                  <a:cubicBezTo>
                    <a:pt x="16" y="136"/>
                    <a:pt x="6" y="140"/>
                    <a:pt x="47" y="130"/>
                  </a:cubicBezTo>
                  <a:cubicBezTo>
                    <a:pt x="62" y="126"/>
                    <a:pt x="78" y="124"/>
                    <a:pt x="93" y="121"/>
                  </a:cubicBezTo>
                  <a:cubicBezTo>
                    <a:pt x="87" y="112"/>
                    <a:pt x="70" y="103"/>
                    <a:pt x="75" y="93"/>
                  </a:cubicBezTo>
                  <a:cubicBezTo>
                    <a:pt x="80" y="84"/>
                    <a:pt x="97" y="94"/>
                    <a:pt x="103" y="102"/>
                  </a:cubicBezTo>
                  <a:cubicBezTo>
                    <a:pt x="111" y="112"/>
                    <a:pt x="102" y="132"/>
                    <a:pt x="112" y="140"/>
                  </a:cubicBezTo>
                  <a:cubicBezTo>
                    <a:pt x="124" y="150"/>
                    <a:pt x="143" y="146"/>
                    <a:pt x="158" y="149"/>
                  </a:cubicBezTo>
                  <a:cubicBezTo>
                    <a:pt x="149" y="155"/>
                    <a:pt x="140" y="162"/>
                    <a:pt x="130" y="167"/>
                  </a:cubicBezTo>
                  <a:cubicBezTo>
                    <a:pt x="121" y="171"/>
                    <a:pt x="105" y="168"/>
                    <a:pt x="103" y="177"/>
                  </a:cubicBezTo>
                  <a:cubicBezTo>
                    <a:pt x="97" y="204"/>
                    <a:pt x="137" y="210"/>
                    <a:pt x="149" y="214"/>
                  </a:cubicBezTo>
                  <a:cubicBezTo>
                    <a:pt x="159" y="244"/>
                    <a:pt x="148" y="283"/>
                    <a:pt x="168" y="307"/>
                  </a:cubicBezTo>
                  <a:cubicBezTo>
                    <a:pt x="176" y="317"/>
                    <a:pt x="193" y="301"/>
                    <a:pt x="205" y="298"/>
                  </a:cubicBezTo>
                  <a:cubicBezTo>
                    <a:pt x="161" y="268"/>
                    <a:pt x="165" y="235"/>
                    <a:pt x="149" y="186"/>
                  </a:cubicBezTo>
                  <a:cubicBezTo>
                    <a:pt x="152" y="214"/>
                    <a:pt x="148" y="244"/>
                    <a:pt x="158" y="270"/>
                  </a:cubicBezTo>
                  <a:cubicBezTo>
                    <a:pt x="162" y="279"/>
                    <a:pt x="179" y="272"/>
                    <a:pt x="186" y="279"/>
                  </a:cubicBezTo>
                  <a:cubicBezTo>
                    <a:pt x="193" y="286"/>
                    <a:pt x="186" y="303"/>
                    <a:pt x="195" y="307"/>
                  </a:cubicBezTo>
                  <a:cubicBezTo>
                    <a:pt x="221" y="317"/>
                    <a:pt x="251" y="313"/>
                    <a:pt x="279" y="316"/>
                  </a:cubicBezTo>
                  <a:cubicBezTo>
                    <a:pt x="290" y="372"/>
                    <a:pt x="282" y="348"/>
                    <a:pt x="298" y="390"/>
                  </a:cubicBezTo>
                  <a:cubicBezTo>
                    <a:pt x="301" y="399"/>
                    <a:pt x="295" y="370"/>
                    <a:pt x="288" y="363"/>
                  </a:cubicBezTo>
                  <a:cubicBezTo>
                    <a:pt x="272" y="347"/>
                    <a:pt x="233" y="325"/>
                    <a:pt x="233" y="325"/>
                  </a:cubicBezTo>
                  <a:cubicBezTo>
                    <a:pt x="222" y="295"/>
                    <a:pt x="186" y="242"/>
                    <a:pt x="186" y="242"/>
                  </a:cubicBezTo>
                  <a:cubicBezTo>
                    <a:pt x="174" y="204"/>
                    <a:pt x="159" y="189"/>
                    <a:pt x="121" y="177"/>
                  </a:cubicBezTo>
                  <a:cubicBezTo>
                    <a:pt x="198" y="150"/>
                    <a:pt x="186" y="215"/>
                    <a:pt x="205" y="270"/>
                  </a:cubicBezTo>
                  <a:cubicBezTo>
                    <a:pt x="199" y="279"/>
                    <a:pt x="196" y="303"/>
                    <a:pt x="186" y="298"/>
                  </a:cubicBezTo>
                  <a:cubicBezTo>
                    <a:pt x="166" y="288"/>
                    <a:pt x="149" y="242"/>
                    <a:pt x="149" y="242"/>
                  </a:cubicBezTo>
                  <a:cubicBezTo>
                    <a:pt x="134" y="179"/>
                    <a:pt x="102" y="171"/>
                    <a:pt x="47" y="158"/>
                  </a:cubicBezTo>
                  <a:cubicBezTo>
                    <a:pt x="56" y="155"/>
                    <a:pt x="65" y="149"/>
                    <a:pt x="75" y="149"/>
                  </a:cubicBezTo>
                  <a:cubicBezTo>
                    <a:pt x="130" y="149"/>
                    <a:pt x="93" y="204"/>
                    <a:pt x="84" y="233"/>
                  </a:cubicBezTo>
                  <a:cubicBezTo>
                    <a:pt x="121" y="257"/>
                    <a:pt x="135" y="245"/>
                    <a:pt x="149" y="288"/>
                  </a:cubicBezTo>
                  <a:cubicBezTo>
                    <a:pt x="137" y="325"/>
                    <a:pt x="121" y="344"/>
                    <a:pt x="93" y="372"/>
                  </a:cubicBezTo>
                  <a:cubicBezTo>
                    <a:pt x="102" y="375"/>
                    <a:pt x="112" y="385"/>
                    <a:pt x="121" y="381"/>
                  </a:cubicBezTo>
                  <a:cubicBezTo>
                    <a:pt x="146" y="371"/>
                    <a:pt x="136" y="341"/>
                    <a:pt x="149" y="325"/>
                  </a:cubicBezTo>
                  <a:cubicBezTo>
                    <a:pt x="156" y="316"/>
                    <a:pt x="168" y="313"/>
                    <a:pt x="177" y="307"/>
                  </a:cubicBezTo>
                  <a:cubicBezTo>
                    <a:pt x="168" y="301"/>
                    <a:pt x="157" y="280"/>
                    <a:pt x="149" y="288"/>
                  </a:cubicBezTo>
                  <a:cubicBezTo>
                    <a:pt x="140" y="297"/>
                    <a:pt x="147" y="319"/>
                    <a:pt x="158" y="325"/>
                  </a:cubicBezTo>
                  <a:cubicBezTo>
                    <a:pt x="166" y="329"/>
                    <a:pt x="160" y="303"/>
                    <a:pt x="168" y="298"/>
                  </a:cubicBezTo>
                  <a:cubicBezTo>
                    <a:pt x="184" y="289"/>
                    <a:pt x="205" y="291"/>
                    <a:pt x="223" y="288"/>
                  </a:cubicBezTo>
                  <a:cubicBezTo>
                    <a:pt x="235" y="254"/>
                    <a:pt x="224" y="264"/>
                    <a:pt x="251" y="251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908000" y="3052800"/>
            <a:ext cx="865440" cy="1298520"/>
            <a:chOff x="1908000" y="3052800"/>
            <a:chExt cx="865440" cy="1298520"/>
          </a:xfrm>
        </p:grpSpPr>
        <p:sp>
          <p:nvSpPr>
            <p:cNvPr id="227" name=""/>
            <p:cNvSpPr/>
            <p:nvPr/>
          </p:nvSpPr>
          <p:spPr>
            <a:xfrm>
              <a:off x="2268360" y="4299120"/>
              <a:ext cx="505080" cy="52200"/>
            </a:xfrm>
            <a:custGeom>
              <a:avLst/>
              <a:gdLst/>
              <a:ahLst/>
              <a:rect l="l" t="t" r="r" b="b"/>
              <a:pathLst>
                <a:path w="318" h="33">
                  <a:moveTo>
                    <a:pt x="0" y="1"/>
                  </a:moveTo>
                  <a:cubicBezTo>
                    <a:pt x="25" y="2"/>
                    <a:pt x="97" y="0"/>
                    <a:pt x="150" y="5"/>
                  </a:cubicBezTo>
                  <a:cubicBezTo>
                    <a:pt x="203" y="10"/>
                    <a:pt x="283" y="27"/>
                    <a:pt x="318" y="33"/>
                  </a:cubicBezTo>
                </a:path>
              </a:pathLst>
            </a:custGeom>
            <a:noFill/>
            <a:ln w="63360">
              <a:solidFill>
                <a:srgbClr val="ff99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08000" y="3052800"/>
              <a:ext cx="584280" cy="598320"/>
            </a:xfrm>
            <a:custGeom>
              <a:avLst/>
              <a:gdLst/>
              <a:ahLst/>
              <a:rect l="l" t="t" r="r" b="b"/>
              <a:pathLst>
                <a:path w="368" h="377">
                  <a:moveTo>
                    <a:pt x="0" y="377"/>
                  </a:moveTo>
                  <a:cubicBezTo>
                    <a:pt x="24" y="337"/>
                    <a:pt x="84" y="202"/>
                    <a:pt x="145" y="139"/>
                  </a:cubicBezTo>
                  <a:cubicBezTo>
                    <a:pt x="206" y="76"/>
                    <a:pt x="322" y="29"/>
                    <a:pt x="368" y="0"/>
                  </a:cubicBezTo>
                </a:path>
              </a:pathLst>
            </a:custGeom>
            <a:noFill/>
            <a:ln w="63360">
              <a:solidFill>
                <a:srgbClr val="ff99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519200" y="2227320"/>
            <a:ext cx="2543040" cy="1400040"/>
            <a:chOff x="1519200" y="2227320"/>
            <a:chExt cx="2543040" cy="1400040"/>
          </a:xfrm>
        </p:grpSpPr>
        <p:sp>
          <p:nvSpPr>
            <p:cNvPr id="230" name=""/>
            <p:cNvSpPr/>
            <p:nvPr/>
          </p:nvSpPr>
          <p:spPr>
            <a:xfrm>
              <a:off x="3433680" y="2227320"/>
              <a:ext cx="471600" cy="304920"/>
            </a:xfrm>
            <a:custGeom>
              <a:avLst/>
              <a:gdLst/>
              <a:ahLst/>
              <a:rect l="l" t="t" r="r" b="b"/>
              <a:pathLst>
                <a:path w="998" h="518">
                  <a:moveTo>
                    <a:pt x="0" y="518"/>
                  </a:moveTo>
                  <a:cubicBezTo>
                    <a:pt x="11" y="270"/>
                    <a:pt x="160" y="159"/>
                    <a:pt x="281" y="84"/>
                  </a:cubicBezTo>
                  <a:cubicBezTo>
                    <a:pt x="402" y="9"/>
                    <a:pt x="607" y="0"/>
                    <a:pt x="726" y="65"/>
                  </a:cubicBezTo>
                  <a:cubicBezTo>
                    <a:pt x="845" y="130"/>
                    <a:pt x="977" y="223"/>
                    <a:pt x="998" y="473"/>
                  </a:cubicBezTo>
                  <a:cubicBezTo>
                    <a:pt x="606" y="493"/>
                    <a:pt x="271" y="502"/>
                    <a:pt x="0" y="518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92560" y="3073320"/>
              <a:ext cx="272880" cy="316080"/>
            </a:xfrm>
            <a:custGeom>
              <a:avLst/>
              <a:gdLst/>
              <a:ahLst/>
              <a:rect l="l" t="t" r="r" b="b"/>
              <a:pathLst>
                <a:path w="3310" h="3577">
                  <a:moveTo>
                    <a:pt x="3300" y="799"/>
                  </a:moveTo>
                  <a:cubicBezTo>
                    <a:pt x="3287" y="932"/>
                    <a:pt x="3265" y="1058"/>
                    <a:pt x="3189" y="1171"/>
                  </a:cubicBezTo>
                  <a:cubicBezTo>
                    <a:pt x="3166" y="1243"/>
                    <a:pt x="3156" y="1330"/>
                    <a:pt x="3115" y="1394"/>
                  </a:cubicBezTo>
                  <a:cubicBezTo>
                    <a:pt x="3096" y="1466"/>
                    <a:pt x="3059" y="1533"/>
                    <a:pt x="3022" y="1598"/>
                  </a:cubicBezTo>
                  <a:cubicBezTo>
                    <a:pt x="2998" y="1641"/>
                    <a:pt x="2984" y="1686"/>
                    <a:pt x="2957" y="1728"/>
                  </a:cubicBezTo>
                  <a:cubicBezTo>
                    <a:pt x="2954" y="1740"/>
                    <a:pt x="2952" y="1753"/>
                    <a:pt x="2947" y="1765"/>
                  </a:cubicBezTo>
                  <a:cubicBezTo>
                    <a:pt x="2942" y="1778"/>
                    <a:pt x="2933" y="1789"/>
                    <a:pt x="2929" y="1802"/>
                  </a:cubicBezTo>
                  <a:cubicBezTo>
                    <a:pt x="2904" y="1880"/>
                    <a:pt x="2934" y="1821"/>
                    <a:pt x="2910" y="1877"/>
                  </a:cubicBezTo>
                  <a:cubicBezTo>
                    <a:pt x="2896" y="1910"/>
                    <a:pt x="2884" y="1924"/>
                    <a:pt x="2873" y="1960"/>
                  </a:cubicBezTo>
                  <a:cubicBezTo>
                    <a:pt x="2852" y="2030"/>
                    <a:pt x="2839" y="2102"/>
                    <a:pt x="2799" y="2165"/>
                  </a:cubicBezTo>
                  <a:cubicBezTo>
                    <a:pt x="2783" y="2239"/>
                    <a:pt x="2736" y="2304"/>
                    <a:pt x="2697" y="2369"/>
                  </a:cubicBezTo>
                  <a:cubicBezTo>
                    <a:pt x="2664" y="2425"/>
                    <a:pt x="2645" y="2495"/>
                    <a:pt x="2604" y="2546"/>
                  </a:cubicBezTo>
                  <a:cubicBezTo>
                    <a:pt x="2588" y="2566"/>
                    <a:pt x="2563" y="2579"/>
                    <a:pt x="2548" y="2601"/>
                  </a:cubicBezTo>
                  <a:cubicBezTo>
                    <a:pt x="2542" y="2610"/>
                    <a:pt x="2535" y="2620"/>
                    <a:pt x="2529" y="2629"/>
                  </a:cubicBezTo>
                  <a:cubicBezTo>
                    <a:pt x="2507" y="2698"/>
                    <a:pt x="2470" y="2742"/>
                    <a:pt x="2427" y="2797"/>
                  </a:cubicBezTo>
                  <a:cubicBezTo>
                    <a:pt x="2361" y="2881"/>
                    <a:pt x="2325" y="2978"/>
                    <a:pt x="2232" y="3038"/>
                  </a:cubicBezTo>
                  <a:cubicBezTo>
                    <a:pt x="2205" y="3091"/>
                    <a:pt x="2168" y="3100"/>
                    <a:pt x="2130" y="3150"/>
                  </a:cubicBezTo>
                  <a:cubicBezTo>
                    <a:pt x="2102" y="3187"/>
                    <a:pt x="2088" y="3200"/>
                    <a:pt x="2046" y="3215"/>
                  </a:cubicBezTo>
                  <a:cubicBezTo>
                    <a:pt x="1984" y="3307"/>
                    <a:pt x="1912" y="3371"/>
                    <a:pt x="1823" y="3438"/>
                  </a:cubicBezTo>
                  <a:cubicBezTo>
                    <a:pt x="1814" y="3444"/>
                    <a:pt x="1813" y="3458"/>
                    <a:pt x="1805" y="3465"/>
                  </a:cubicBezTo>
                  <a:cubicBezTo>
                    <a:pt x="1805" y="3465"/>
                    <a:pt x="1721" y="3521"/>
                    <a:pt x="1712" y="3530"/>
                  </a:cubicBezTo>
                  <a:cubicBezTo>
                    <a:pt x="1703" y="3539"/>
                    <a:pt x="1696" y="3552"/>
                    <a:pt x="1684" y="3558"/>
                  </a:cubicBezTo>
                  <a:cubicBezTo>
                    <a:pt x="1667" y="3568"/>
                    <a:pt x="1628" y="3577"/>
                    <a:pt x="1628" y="3577"/>
                  </a:cubicBezTo>
                  <a:cubicBezTo>
                    <a:pt x="1594" y="3574"/>
                    <a:pt x="1560" y="3574"/>
                    <a:pt x="1526" y="3568"/>
                  </a:cubicBezTo>
                  <a:cubicBezTo>
                    <a:pt x="1501" y="3564"/>
                    <a:pt x="1462" y="3542"/>
                    <a:pt x="1433" y="3540"/>
                  </a:cubicBezTo>
                  <a:cubicBezTo>
                    <a:pt x="1337" y="3534"/>
                    <a:pt x="1241" y="3533"/>
                    <a:pt x="1145" y="3530"/>
                  </a:cubicBezTo>
                  <a:cubicBezTo>
                    <a:pt x="1126" y="3524"/>
                    <a:pt x="1108" y="3518"/>
                    <a:pt x="1089" y="3512"/>
                  </a:cubicBezTo>
                  <a:cubicBezTo>
                    <a:pt x="1080" y="3509"/>
                    <a:pt x="1061" y="3503"/>
                    <a:pt x="1061" y="3503"/>
                  </a:cubicBezTo>
                  <a:cubicBezTo>
                    <a:pt x="1033" y="3483"/>
                    <a:pt x="1007" y="3481"/>
                    <a:pt x="978" y="3465"/>
                  </a:cubicBezTo>
                  <a:cubicBezTo>
                    <a:pt x="949" y="3449"/>
                    <a:pt x="922" y="3428"/>
                    <a:pt x="894" y="3410"/>
                  </a:cubicBezTo>
                  <a:cubicBezTo>
                    <a:pt x="882" y="3403"/>
                    <a:pt x="869" y="3398"/>
                    <a:pt x="857" y="3391"/>
                  </a:cubicBezTo>
                  <a:cubicBezTo>
                    <a:pt x="838" y="3379"/>
                    <a:pt x="801" y="3354"/>
                    <a:pt x="801" y="3354"/>
                  </a:cubicBezTo>
                  <a:cubicBezTo>
                    <a:pt x="773" y="3311"/>
                    <a:pt x="739" y="3281"/>
                    <a:pt x="718" y="3233"/>
                  </a:cubicBezTo>
                  <a:cubicBezTo>
                    <a:pt x="706" y="3206"/>
                    <a:pt x="701" y="3165"/>
                    <a:pt x="671" y="3150"/>
                  </a:cubicBezTo>
                  <a:cubicBezTo>
                    <a:pt x="605" y="3116"/>
                    <a:pt x="547" y="3081"/>
                    <a:pt x="504" y="3020"/>
                  </a:cubicBezTo>
                  <a:cubicBezTo>
                    <a:pt x="490" y="2947"/>
                    <a:pt x="502" y="2986"/>
                    <a:pt x="458" y="2899"/>
                  </a:cubicBezTo>
                  <a:cubicBezTo>
                    <a:pt x="452" y="2887"/>
                    <a:pt x="439" y="2862"/>
                    <a:pt x="439" y="2862"/>
                  </a:cubicBezTo>
                  <a:cubicBezTo>
                    <a:pt x="428" y="2815"/>
                    <a:pt x="415" y="2769"/>
                    <a:pt x="402" y="2722"/>
                  </a:cubicBezTo>
                  <a:cubicBezTo>
                    <a:pt x="395" y="2697"/>
                    <a:pt x="383" y="2648"/>
                    <a:pt x="383" y="2648"/>
                  </a:cubicBezTo>
                  <a:cubicBezTo>
                    <a:pt x="384" y="2584"/>
                    <a:pt x="318" y="2120"/>
                    <a:pt x="439" y="1942"/>
                  </a:cubicBezTo>
                  <a:cubicBezTo>
                    <a:pt x="445" y="1923"/>
                    <a:pt x="447" y="1902"/>
                    <a:pt x="458" y="1886"/>
                  </a:cubicBezTo>
                  <a:cubicBezTo>
                    <a:pt x="470" y="1867"/>
                    <a:pt x="495" y="1830"/>
                    <a:pt x="495" y="1830"/>
                  </a:cubicBezTo>
                  <a:cubicBezTo>
                    <a:pt x="506" y="1775"/>
                    <a:pt x="539" y="1713"/>
                    <a:pt x="578" y="1672"/>
                  </a:cubicBezTo>
                  <a:cubicBezTo>
                    <a:pt x="589" y="1641"/>
                    <a:pt x="597" y="1617"/>
                    <a:pt x="616" y="1589"/>
                  </a:cubicBezTo>
                  <a:cubicBezTo>
                    <a:pt x="638" y="1520"/>
                    <a:pt x="620" y="1547"/>
                    <a:pt x="662" y="1505"/>
                  </a:cubicBezTo>
                  <a:cubicBezTo>
                    <a:pt x="678" y="1456"/>
                    <a:pt x="666" y="1485"/>
                    <a:pt x="708" y="1422"/>
                  </a:cubicBezTo>
                  <a:cubicBezTo>
                    <a:pt x="721" y="1403"/>
                    <a:pt x="764" y="1384"/>
                    <a:pt x="764" y="1384"/>
                  </a:cubicBezTo>
                  <a:cubicBezTo>
                    <a:pt x="786" y="1353"/>
                    <a:pt x="816" y="1340"/>
                    <a:pt x="839" y="1310"/>
                  </a:cubicBezTo>
                  <a:cubicBezTo>
                    <a:pt x="853" y="1292"/>
                    <a:pt x="864" y="1273"/>
                    <a:pt x="876" y="1254"/>
                  </a:cubicBezTo>
                  <a:cubicBezTo>
                    <a:pt x="882" y="1245"/>
                    <a:pt x="894" y="1226"/>
                    <a:pt x="894" y="1226"/>
                  </a:cubicBezTo>
                  <a:cubicBezTo>
                    <a:pt x="775" y="1187"/>
                    <a:pt x="787" y="1198"/>
                    <a:pt x="616" y="1189"/>
                  </a:cubicBezTo>
                  <a:cubicBezTo>
                    <a:pt x="560" y="1171"/>
                    <a:pt x="606" y="1161"/>
                    <a:pt x="551" y="1143"/>
                  </a:cubicBezTo>
                  <a:cubicBezTo>
                    <a:pt x="499" y="1108"/>
                    <a:pt x="436" y="1103"/>
                    <a:pt x="383" y="1069"/>
                  </a:cubicBezTo>
                  <a:cubicBezTo>
                    <a:pt x="340" y="1002"/>
                    <a:pt x="397" y="1076"/>
                    <a:pt x="328" y="1031"/>
                  </a:cubicBezTo>
                  <a:cubicBezTo>
                    <a:pt x="319" y="1025"/>
                    <a:pt x="316" y="1012"/>
                    <a:pt x="309" y="1004"/>
                  </a:cubicBezTo>
                  <a:cubicBezTo>
                    <a:pt x="275" y="966"/>
                    <a:pt x="222" y="902"/>
                    <a:pt x="179" y="873"/>
                  </a:cubicBezTo>
                  <a:cubicBezTo>
                    <a:pt x="128" y="800"/>
                    <a:pt x="187" y="890"/>
                    <a:pt x="151" y="818"/>
                  </a:cubicBezTo>
                  <a:cubicBezTo>
                    <a:pt x="133" y="783"/>
                    <a:pt x="130" y="794"/>
                    <a:pt x="105" y="762"/>
                  </a:cubicBezTo>
                  <a:cubicBezTo>
                    <a:pt x="91" y="744"/>
                    <a:pt x="67" y="706"/>
                    <a:pt x="67" y="706"/>
                  </a:cubicBezTo>
                  <a:cubicBezTo>
                    <a:pt x="52" y="660"/>
                    <a:pt x="58" y="617"/>
                    <a:pt x="30" y="576"/>
                  </a:cubicBezTo>
                  <a:cubicBezTo>
                    <a:pt x="0" y="484"/>
                    <a:pt x="29" y="382"/>
                    <a:pt x="95" y="316"/>
                  </a:cubicBezTo>
                  <a:cubicBezTo>
                    <a:pt x="114" y="263"/>
                    <a:pt x="135" y="215"/>
                    <a:pt x="197" y="195"/>
                  </a:cubicBezTo>
                  <a:cubicBezTo>
                    <a:pt x="216" y="189"/>
                    <a:pt x="253" y="177"/>
                    <a:pt x="253" y="177"/>
                  </a:cubicBezTo>
                  <a:cubicBezTo>
                    <a:pt x="365" y="182"/>
                    <a:pt x="461" y="188"/>
                    <a:pt x="569" y="205"/>
                  </a:cubicBezTo>
                  <a:cubicBezTo>
                    <a:pt x="578" y="208"/>
                    <a:pt x="587" y="212"/>
                    <a:pt x="597" y="214"/>
                  </a:cubicBezTo>
                  <a:cubicBezTo>
                    <a:pt x="615" y="218"/>
                    <a:pt x="635" y="218"/>
                    <a:pt x="653" y="223"/>
                  </a:cubicBezTo>
                  <a:cubicBezTo>
                    <a:pt x="696" y="236"/>
                    <a:pt x="738" y="262"/>
                    <a:pt x="783" y="270"/>
                  </a:cubicBezTo>
                  <a:cubicBezTo>
                    <a:pt x="857" y="283"/>
                    <a:pt x="1011" y="286"/>
                    <a:pt x="1061" y="288"/>
                  </a:cubicBezTo>
                  <a:cubicBezTo>
                    <a:pt x="1093" y="312"/>
                    <a:pt x="1122" y="322"/>
                    <a:pt x="1154" y="344"/>
                  </a:cubicBezTo>
                  <a:cubicBezTo>
                    <a:pt x="1186" y="391"/>
                    <a:pt x="1163" y="365"/>
                    <a:pt x="1229" y="409"/>
                  </a:cubicBezTo>
                  <a:cubicBezTo>
                    <a:pt x="1238" y="415"/>
                    <a:pt x="1257" y="428"/>
                    <a:pt x="1257" y="428"/>
                  </a:cubicBezTo>
                  <a:cubicBezTo>
                    <a:pt x="1303" y="425"/>
                    <a:pt x="1350" y="422"/>
                    <a:pt x="1396" y="418"/>
                  </a:cubicBezTo>
                  <a:cubicBezTo>
                    <a:pt x="1418" y="416"/>
                    <a:pt x="1444" y="422"/>
                    <a:pt x="1461" y="409"/>
                  </a:cubicBezTo>
                  <a:cubicBezTo>
                    <a:pt x="1477" y="397"/>
                    <a:pt x="1474" y="372"/>
                    <a:pt x="1480" y="353"/>
                  </a:cubicBezTo>
                  <a:cubicBezTo>
                    <a:pt x="1495" y="308"/>
                    <a:pt x="1563" y="227"/>
                    <a:pt x="1591" y="186"/>
                  </a:cubicBezTo>
                  <a:cubicBezTo>
                    <a:pt x="1610" y="129"/>
                    <a:pt x="1622" y="43"/>
                    <a:pt x="1665" y="0"/>
                  </a:cubicBezTo>
                  <a:lnTo>
                    <a:pt x="3310" y="781"/>
                  </a:lnTo>
                  <a:cubicBezTo>
                    <a:pt x="3310" y="781"/>
                    <a:pt x="3300" y="799"/>
                    <a:pt x="3300" y="799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780000" y="3029040"/>
              <a:ext cx="282240" cy="341280"/>
            </a:xfrm>
            <a:custGeom>
              <a:avLst/>
              <a:gdLst/>
              <a:ahLst/>
              <a:rect l="l" t="t" r="r" b="b"/>
              <a:pathLst>
                <a:path w="3310" h="3577">
                  <a:moveTo>
                    <a:pt x="3300" y="799"/>
                  </a:moveTo>
                  <a:cubicBezTo>
                    <a:pt x="3287" y="932"/>
                    <a:pt x="3265" y="1058"/>
                    <a:pt x="3189" y="1171"/>
                  </a:cubicBezTo>
                  <a:cubicBezTo>
                    <a:pt x="3166" y="1243"/>
                    <a:pt x="3156" y="1330"/>
                    <a:pt x="3115" y="1394"/>
                  </a:cubicBezTo>
                  <a:cubicBezTo>
                    <a:pt x="3096" y="1466"/>
                    <a:pt x="3059" y="1533"/>
                    <a:pt x="3022" y="1598"/>
                  </a:cubicBezTo>
                  <a:cubicBezTo>
                    <a:pt x="2998" y="1641"/>
                    <a:pt x="2984" y="1686"/>
                    <a:pt x="2957" y="1728"/>
                  </a:cubicBezTo>
                  <a:cubicBezTo>
                    <a:pt x="2954" y="1740"/>
                    <a:pt x="2952" y="1753"/>
                    <a:pt x="2947" y="1765"/>
                  </a:cubicBezTo>
                  <a:cubicBezTo>
                    <a:pt x="2942" y="1778"/>
                    <a:pt x="2933" y="1789"/>
                    <a:pt x="2929" y="1802"/>
                  </a:cubicBezTo>
                  <a:cubicBezTo>
                    <a:pt x="2904" y="1880"/>
                    <a:pt x="2934" y="1821"/>
                    <a:pt x="2910" y="1877"/>
                  </a:cubicBezTo>
                  <a:cubicBezTo>
                    <a:pt x="2896" y="1910"/>
                    <a:pt x="2884" y="1924"/>
                    <a:pt x="2873" y="1960"/>
                  </a:cubicBezTo>
                  <a:cubicBezTo>
                    <a:pt x="2852" y="2030"/>
                    <a:pt x="2839" y="2102"/>
                    <a:pt x="2799" y="2165"/>
                  </a:cubicBezTo>
                  <a:cubicBezTo>
                    <a:pt x="2783" y="2239"/>
                    <a:pt x="2736" y="2304"/>
                    <a:pt x="2697" y="2369"/>
                  </a:cubicBezTo>
                  <a:cubicBezTo>
                    <a:pt x="2664" y="2425"/>
                    <a:pt x="2645" y="2495"/>
                    <a:pt x="2604" y="2546"/>
                  </a:cubicBezTo>
                  <a:cubicBezTo>
                    <a:pt x="2588" y="2566"/>
                    <a:pt x="2563" y="2579"/>
                    <a:pt x="2548" y="2601"/>
                  </a:cubicBezTo>
                  <a:cubicBezTo>
                    <a:pt x="2542" y="2610"/>
                    <a:pt x="2535" y="2620"/>
                    <a:pt x="2529" y="2629"/>
                  </a:cubicBezTo>
                  <a:cubicBezTo>
                    <a:pt x="2507" y="2698"/>
                    <a:pt x="2470" y="2742"/>
                    <a:pt x="2427" y="2797"/>
                  </a:cubicBezTo>
                  <a:cubicBezTo>
                    <a:pt x="2361" y="2881"/>
                    <a:pt x="2325" y="2978"/>
                    <a:pt x="2232" y="3038"/>
                  </a:cubicBezTo>
                  <a:cubicBezTo>
                    <a:pt x="2205" y="3091"/>
                    <a:pt x="2168" y="3100"/>
                    <a:pt x="2130" y="3150"/>
                  </a:cubicBezTo>
                  <a:cubicBezTo>
                    <a:pt x="2102" y="3187"/>
                    <a:pt x="2088" y="3200"/>
                    <a:pt x="2046" y="3215"/>
                  </a:cubicBezTo>
                  <a:cubicBezTo>
                    <a:pt x="1984" y="3307"/>
                    <a:pt x="1912" y="3371"/>
                    <a:pt x="1823" y="3438"/>
                  </a:cubicBezTo>
                  <a:cubicBezTo>
                    <a:pt x="1814" y="3444"/>
                    <a:pt x="1813" y="3458"/>
                    <a:pt x="1805" y="3465"/>
                  </a:cubicBezTo>
                  <a:cubicBezTo>
                    <a:pt x="1805" y="3465"/>
                    <a:pt x="1721" y="3521"/>
                    <a:pt x="1712" y="3530"/>
                  </a:cubicBezTo>
                  <a:cubicBezTo>
                    <a:pt x="1703" y="3539"/>
                    <a:pt x="1696" y="3552"/>
                    <a:pt x="1684" y="3558"/>
                  </a:cubicBezTo>
                  <a:cubicBezTo>
                    <a:pt x="1667" y="3568"/>
                    <a:pt x="1628" y="3577"/>
                    <a:pt x="1628" y="3577"/>
                  </a:cubicBezTo>
                  <a:cubicBezTo>
                    <a:pt x="1594" y="3574"/>
                    <a:pt x="1560" y="3574"/>
                    <a:pt x="1526" y="3568"/>
                  </a:cubicBezTo>
                  <a:cubicBezTo>
                    <a:pt x="1501" y="3564"/>
                    <a:pt x="1462" y="3542"/>
                    <a:pt x="1433" y="3540"/>
                  </a:cubicBezTo>
                  <a:cubicBezTo>
                    <a:pt x="1337" y="3534"/>
                    <a:pt x="1241" y="3533"/>
                    <a:pt x="1145" y="3530"/>
                  </a:cubicBezTo>
                  <a:cubicBezTo>
                    <a:pt x="1126" y="3524"/>
                    <a:pt x="1108" y="3518"/>
                    <a:pt x="1089" y="3512"/>
                  </a:cubicBezTo>
                  <a:cubicBezTo>
                    <a:pt x="1080" y="3509"/>
                    <a:pt x="1061" y="3503"/>
                    <a:pt x="1061" y="3503"/>
                  </a:cubicBezTo>
                  <a:cubicBezTo>
                    <a:pt x="1033" y="3483"/>
                    <a:pt x="1007" y="3481"/>
                    <a:pt x="978" y="3465"/>
                  </a:cubicBezTo>
                  <a:cubicBezTo>
                    <a:pt x="949" y="3449"/>
                    <a:pt x="922" y="3428"/>
                    <a:pt x="894" y="3410"/>
                  </a:cubicBezTo>
                  <a:cubicBezTo>
                    <a:pt x="882" y="3403"/>
                    <a:pt x="869" y="3398"/>
                    <a:pt x="857" y="3391"/>
                  </a:cubicBezTo>
                  <a:cubicBezTo>
                    <a:pt x="838" y="3379"/>
                    <a:pt x="801" y="3354"/>
                    <a:pt x="801" y="3354"/>
                  </a:cubicBezTo>
                  <a:cubicBezTo>
                    <a:pt x="773" y="3311"/>
                    <a:pt x="739" y="3281"/>
                    <a:pt x="718" y="3233"/>
                  </a:cubicBezTo>
                  <a:cubicBezTo>
                    <a:pt x="706" y="3206"/>
                    <a:pt x="701" y="3165"/>
                    <a:pt x="671" y="3150"/>
                  </a:cubicBezTo>
                  <a:cubicBezTo>
                    <a:pt x="605" y="3116"/>
                    <a:pt x="547" y="3081"/>
                    <a:pt x="504" y="3020"/>
                  </a:cubicBezTo>
                  <a:cubicBezTo>
                    <a:pt x="490" y="2947"/>
                    <a:pt x="502" y="2986"/>
                    <a:pt x="458" y="2899"/>
                  </a:cubicBezTo>
                  <a:cubicBezTo>
                    <a:pt x="452" y="2887"/>
                    <a:pt x="439" y="2862"/>
                    <a:pt x="439" y="2862"/>
                  </a:cubicBezTo>
                  <a:cubicBezTo>
                    <a:pt x="428" y="2815"/>
                    <a:pt x="415" y="2769"/>
                    <a:pt x="402" y="2722"/>
                  </a:cubicBezTo>
                  <a:cubicBezTo>
                    <a:pt x="395" y="2697"/>
                    <a:pt x="383" y="2648"/>
                    <a:pt x="383" y="2648"/>
                  </a:cubicBezTo>
                  <a:cubicBezTo>
                    <a:pt x="384" y="2584"/>
                    <a:pt x="318" y="2120"/>
                    <a:pt x="439" y="1942"/>
                  </a:cubicBezTo>
                  <a:cubicBezTo>
                    <a:pt x="445" y="1923"/>
                    <a:pt x="447" y="1902"/>
                    <a:pt x="458" y="1886"/>
                  </a:cubicBezTo>
                  <a:cubicBezTo>
                    <a:pt x="470" y="1867"/>
                    <a:pt x="495" y="1830"/>
                    <a:pt x="495" y="1830"/>
                  </a:cubicBezTo>
                  <a:cubicBezTo>
                    <a:pt x="506" y="1775"/>
                    <a:pt x="539" y="1713"/>
                    <a:pt x="578" y="1672"/>
                  </a:cubicBezTo>
                  <a:cubicBezTo>
                    <a:pt x="589" y="1641"/>
                    <a:pt x="597" y="1617"/>
                    <a:pt x="616" y="1589"/>
                  </a:cubicBezTo>
                  <a:cubicBezTo>
                    <a:pt x="638" y="1520"/>
                    <a:pt x="620" y="1547"/>
                    <a:pt x="662" y="1505"/>
                  </a:cubicBezTo>
                  <a:cubicBezTo>
                    <a:pt x="678" y="1456"/>
                    <a:pt x="666" y="1485"/>
                    <a:pt x="708" y="1422"/>
                  </a:cubicBezTo>
                  <a:cubicBezTo>
                    <a:pt x="721" y="1403"/>
                    <a:pt x="764" y="1384"/>
                    <a:pt x="764" y="1384"/>
                  </a:cubicBezTo>
                  <a:cubicBezTo>
                    <a:pt x="786" y="1353"/>
                    <a:pt x="816" y="1340"/>
                    <a:pt x="839" y="1310"/>
                  </a:cubicBezTo>
                  <a:cubicBezTo>
                    <a:pt x="853" y="1292"/>
                    <a:pt x="864" y="1273"/>
                    <a:pt x="876" y="1254"/>
                  </a:cubicBezTo>
                  <a:cubicBezTo>
                    <a:pt x="882" y="1245"/>
                    <a:pt x="894" y="1226"/>
                    <a:pt x="894" y="1226"/>
                  </a:cubicBezTo>
                  <a:cubicBezTo>
                    <a:pt x="775" y="1187"/>
                    <a:pt x="787" y="1198"/>
                    <a:pt x="616" y="1189"/>
                  </a:cubicBezTo>
                  <a:cubicBezTo>
                    <a:pt x="560" y="1171"/>
                    <a:pt x="606" y="1161"/>
                    <a:pt x="551" y="1143"/>
                  </a:cubicBezTo>
                  <a:cubicBezTo>
                    <a:pt x="499" y="1108"/>
                    <a:pt x="436" y="1103"/>
                    <a:pt x="383" y="1069"/>
                  </a:cubicBezTo>
                  <a:cubicBezTo>
                    <a:pt x="340" y="1002"/>
                    <a:pt x="397" y="1076"/>
                    <a:pt x="328" y="1031"/>
                  </a:cubicBezTo>
                  <a:cubicBezTo>
                    <a:pt x="319" y="1025"/>
                    <a:pt x="316" y="1012"/>
                    <a:pt x="309" y="1004"/>
                  </a:cubicBezTo>
                  <a:cubicBezTo>
                    <a:pt x="275" y="966"/>
                    <a:pt x="222" y="902"/>
                    <a:pt x="179" y="873"/>
                  </a:cubicBezTo>
                  <a:cubicBezTo>
                    <a:pt x="128" y="800"/>
                    <a:pt x="187" y="890"/>
                    <a:pt x="151" y="818"/>
                  </a:cubicBezTo>
                  <a:cubicBezTo>
                    <a:pt x="133" y="783"/>
                    <a:pt x="130" y="794"/>
                    <a:pt x="105" y="762"/>
                  </a:cubicBezTo>
                  <a:cubicBezTo>
                    <a:pt x="91" y="744"/>
                    <a:pt x="67" y="706"/>
                    <a:pt x="67" y="706"/>
                  </a:cubicBezTo>
                  <a:cubicBezTo>
                    <a:pt x="52" y="660"/>
                    <a:pt x="58" y="617"/>
                    <a:pt x="30" y="576"/>
                  </a:cubicBezTo>
                  <a:cubicBezTo>
                    <a:pt x="0" y="484"/>
                    <a:pt x="29" y="382"/>
                    <a:pt x="95" y="316"/>
                  </a:cubicBezTo>
                  <a:cubicBezTo>
                    <a:pt x="114" y="263"/>
                    <a:pt x="135" y="215"/>
                    <a:pt x="197" y="195"/>
                  </a:cubicBezTo>
                  <a:cubicBezTo>
                    <a:pt x="216" y="189"/>
                    <a:pt x="253" y="177"/>
                    <a:pt x="253" y="177"/>
                  </a:cubicBezTo>
                  <a:cubicBezTo>
                    <a:pt x="365" y="182"/>
                    <a:pt x="461" y="188"/>
                    <a:pt x="569" y="205"/>
                  </a:cubicBezTo>
                  <a:cubicBezTo>
                    <a:pt x="578" y="208"/>
                    <a:pt x="587" y="212"/>
                    <a:pt x="597" y="214"/>
                  </a:cubicBezTo>
                  <a:cubicBezTo>
                    <a:pt x="615" y="218"/>
                    <a:pt x="635" y="218"/>
                    <a:pt x="653" y="223"/>
                  </a:cubicBezTo>
                  <a:cubicBezTo>
                    <a:pt x="696" y="236"/>
                    <a:pt x="738" y="262"/>
                    <a:pt x="783" y="270"/>
                  </a:cubicBezTo>
                  <a:cubicBezTo>
                    <a:pt x="857" y="283"/>
                    <a:pt x="1011" y="286"/>
                    <a:pt x="1061" y="288"/>
                  </a:cubicBezTo>
                  <a:cubicBezTo>
                    <a:pt x="1093" y="312"/>
                    <a:pt x="1122" y="322"/>
                    <a:pt x="1154" y="344"/>
                  </a:cubicBezTo>
                  <a:cubicBezTo>
                    <a:pt x="1186" y="391"/>
                    <a:pt x="1163" y="365"/>
                    <a:pt x="1229" y="409"/>
                  </a:cubicBezTo>
                  <a:cubicBezTo>
                    <a:pt x="1238" y="415"/>
                    <a:pt x="1257" y="428"/>
                    <a:pt x="1257" y="428"/>
                  </a:cubicBezTo>
                  <a:cubicBezTo>
                    <a:pt x="1303" y="425"/>
                    <a:pt x="1350" y="422"/>
                    <a:pt x="1396" y="418"/>
                  </a:cubicBezTo>
                  <a:cubicBezTo>
                    <a:pt x="1418" y="416"/>
                    <a:pt x="1444" y="422"/>
                    <a:pt x="1461" y="409"/>
                  </a:cubicBezTo>
                  <a:cubicBezTo>
                    <a:pt x="1477" y="397"/>
                    <a:pt x="1474" y="372"/>
                    <a:pt x="1480" y="353"/>
                  </a:cubicBezTo>
                  <a:cubicBezTo>
                    <a:pt x="1495" y="308"/>
                    <a:pt x="1563" y="227"/>
                    <a:pt x="1591" y="186"/>
                  </a:cubicBezTo>
                  <a:cubicBezTo>
                    <a:pt x="1610" y="129"/>
                    <a:pt x="1622" y="43"/>
                    <a:pt x="1665" y="0"/>
                  </a:cubicBezTo>
                  <a:lnTo>
                    <a:pt x="3310" y="781"/>
                  </a:lnTo>
                  <a:cubicBezTo>
                    <a:pt x="3310" y="781"/>
                    <a:pt x="3300" y="799"/>
                    <a:pt x="3300" y="799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19200" y="2400480"/>
              <a:ext cx="1825560" cy="1226880"/>
            </a:xfrm>
            <a:custGeom>
              <a:avLst/>
              <a:gdLst/>
              <a:ahLst/>
              <a:rect l="l" t="t" r="r" b="b"/>
              <a:pathLst>
                <a:path w="1150" h="773">
                  <a:moveTo>
                    <a:pt x="1150" y="0"/>
                  </a:moveTo>
                  <a:cubicBezTo>
                    <a:pt x="1047" y="27"/>
                    <a:pt x="721" y="31"/>
                    <a:pt x="529" y="160"/>
                  </a:cubicBezTo>
                  <a:cubicBezTo>
                    <a:pt x="337" y="289"/>
                    <a:pt x="110" y="645"/>
                    <a:pt x="0" y="773"/>
                  </a:cubicBezTo>
                </a:path>
              </a:pathLst>
            </a:custGeom>
            <a:noFill/>
            <a:ln w="63360">
              <a:solidFill>
                <a:srgbClr val="7bc143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952800" y="2639880"/>
            <a:ext cx="3376800" cy="1992600"/>
            <a:chOff x="3952800" y="2639880"/>
            <a:chExt cx="3376800" cy="1992600"/>
          </a:xfrm>
        </p:grpSpPr>
        <p:sp>
          <p:nvSpPr>
            <p:cNvPr id="235" name=""/>
            <p:cNvSpPr/>
            <p:nvPr/>
          </p:nvSpPr>
          <p:spPr>
            <a:xfrm>
              <a:off x="5292720" y="2736720"/>
              <a:ext cx="1004760" cy="1052640"/>
            </a:xfrm>
            <a:custGeom>
              <a:avLst/>
              <a:gdLst/>
              <a:ahLst/>
              <a:rect l="l" t="t" r="r" b="b"/>
              <a:pathLst>
                <a:path w="633" h="663">
                  <a:moveTo>
                    <a:pt x="633" y="78"/>
                  </a:moveTo>
                  <a:cubicBezTo>
                    <a:pt x="570" y="83"/>
                    <a:pt x="357" y="0"/>
                    <a:pt x="252" y="97"/>
                  </a:cubicBezTo>
                  <a:cubicBezTo>
                    <a:pt x="147" y="194"/>
                    <a:pt x="53" y="545"/>
                    <a:pt x="0" y="663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52800" y="2639880"/>
              <a:ext cx="687600" cy="1128960"/>
            </a:xfrm>
            <a:custGeom>
              <a:avLst/>
              <a:gdLst/>
              <a:ahLst/>
              <a:rect l="l" t="t" r="r" b="b"/>
              <a:pathLst>
                <a:path w="433" h="711">
                  <a:moveTo>
                    <a:pt x="433" y="711"/>
                  </a:moveTo>
                  <a:cubicBezTo>
                    <a:pt x="420" y="613"/>
                    <a:pt x="425" y="239"/>
                    <a:pt x="353" y="121"/>
                  </a:cubicBezTo>
                  <a:cubicBezTo>
                    <a:pt x="281" y="3"/>
                    <a:pt x="74" y="25"/>
                    <a:pt x="0" y="0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30680" y="3651120"/>
              <a:ext cx="619200" cy="552600"/>
            </a:xfrm>
            <a:custGeom>
              <a:avLst/>
              <a:gdLst/>
              <a:ahLst/>
              <a:rect l="l" t="t" r="r" b="b"/>
              <a:pathLst>
                <a:path w="390" h="348">
                  <a:moveTo>
                    <a:pt x="0" y="153"/>
                  </a:moveTo>
                  <a:cubicBezTo>
                    <a:pt x="45" y="133"/>
                    <a:pt x="204" y="0"/>
                    <a:pt x="269" y="32"/>
                  </a:cubicBezTo>
                  <a:cubicBezTo>
                    <a:pt x="334" y="64"/>
                    <a:pt x="365" y="282"/>
                    <a:pt x="390" y="348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15200" y="3760920"/>
              <a:ext cx="914400" cy="871560"/>
            </a:xfrm>
            <a:custGeom>
              <a:avLst/>
              <a:gdLst/>
              <a:ahLst/>
              <a:rect l="l" t="t" r="r" b="b"/>
              <a:pathLst>
                <a:path w="576" h="549">
                  <a:moveTo>
                    <a:pt x="0" y="502"/>
                  </a:moveTo>
                  <a:cubicBezTo>
                    <a:pt x="48" y="496"/>
                    <a:pt x="192" y="549"/>
                    <a:pt x="288" y="465"/>
                  </a:cubicBezTo>
                  <a:cubicBezTo>
                    <a:pt x="384" y="381"/>
                    <a:pt x="516" y="97"/>
                    <a:pt x="576" y="0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aettu ymmärrys: määritelm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28320" indent="-328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hden ihmisen välillä on jaettu  ymmärrys tietystä aiheesta silloin, kun molemmat osaavat selittää mitä toinen ajattelee asiasta ja miks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ääritelmän voi laajentaa ryhmään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512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kainen osaa selittää mitä ajatuksia ja päätelmiä ryhmässä on asia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3800" indent="-24408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ätä ei tarvitse tietää yksilötasol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512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äytännössä tarvitaan yhdessä tehty kirjallinen kuvaus jaetusta ymmärryksest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512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akohtainen testi: Onko minun ajatteluni kuvattu kirjallisessa kuvauksessa kaikilta olennaisilta osiltaan? Onko se käsitelty asianmukaisesti päätelmiä kirjoitettaes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itä on ympäristöterveysvaikutusten arvioint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rkastellaan jostakin toiminnasta ympäristöön pääseviä aineita (esim. savu) ja fysikaalisia tekijöitä (esim. melu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vioidaan näiden altisteiden aiheuttamia terveysvaikutuksia väestössä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ityisesti tarkastellaan erilaisten (suunniteltujen) toimenpiteiden vaikutuksia altistumiseen ja terveyte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5906880" cy="59644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aettu ymmärrys: kaavio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5876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7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000000"/>
                </a:solidFill>
                <a:latin typeface="Arial"/>
              </a:rPr>
              <a:t>Pohjola MV et al: Food and Chemical Toxicology. 2011. In pres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utkimuksen ja päätöksenteon rajapinnan murro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erinteinen ajattelu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siantuntija mallittaa monimutkaisia ilmiöitä omaksi (ja kollegoiden) tiedoksi. Viisastuttuaan hän osaa kirjoittaa yleistajuisia raportteja poliitikoi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siantuntija ei osallistu politiikkaan (IPCC: me annamme tietoa, emme suosituks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Uusi ajattelu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llitus on jaetun ymmärryksen luomista arvioimalla määrällisesti asioita yhdess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liittinen keskustelu on avointa hypoteesien esittämistä siitä, millä toimilla saavutetaan tavoitte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oimiva yhteisö ei tarvitse T-P-rajapinta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onet roolit säilyvät: tutkijan tehtävänä on osata asiat, poliitikon tehtävänä tehdä päätök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eskeisiä periaatteita muutoksen edistämiseks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Heti kaikki tieto tänne meil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ietomonopolit on murrettava, varsinkin päätöksentekoon vaikuttavan tied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Vertaisarviointi tehdään jälkikäteen – jos asia osoittautuu tärkeäks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Yhtä asiaa koskeva tieto pistetään aina yhteen ja samaan paikkaan (tieteen Wikipedi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ieteen menetelmä = avoin kriittinen keskustelu hypoteesien vahvuuksista ja hylkäämisestä pitää ottaa käyttöö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eteessä (milloin sinun oman julkaisusi hypoteeseja on julkisesti hylätty kriittisen keskustelun tuloksena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olitiikassa (on tyhmää äänestää faktois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Kaikelle tiedolle yhtenäinen, avoin tietoraken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n example of an open assessmen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ealth impact of radon in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80" y="1413000"/>
            <a:ext cx="9139320" cy="2336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76411E-006 L 0.00035 -0.56868 E">
                                      <p:cBhvr>
                                        <p:cTn id="32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-0.56868 L 0.00434 -1.32377 E">
                                      <p:cBhvr>
                                        <p:cTn id="36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1.32377 L -0.00017 -1.90726 E">
                                      <p:cBhvr>
                                        <p:cTn id="40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1.90726 L -0.00017 -2.57215 E">
                                      <p:cBhvr>
                                        <p:cTn id="44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n example of a variable in a model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1328760"/>
            <a:ext cx="91440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n example of a statement and resolution of a discussio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Is Pandemrix a safe vaccin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1328760"/>
            <a:ext cx="91440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143"/>
                </a:solidFill>
                <a:latin typeface="Arial"/>
              </a:rPr>
              <a:t>Opasnet: verkkotyötila avointen arviointien ja jaetun ymmärryksen luomiseen</a:t>
            </a:r>
            <a:endParaRPr b="1" lang="en-US" sz="30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-wiki: käyttöliittymä osallistumiseen ja kaikkiin toiminnallisuuksi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eskustelu- ja kommentointisivut: keskustelua varsinaises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-kanta: tietokanta kaikenlaisen taulukkodatan tallentamiseen ja käyttämise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R-tools: tilasto- ja laskentaohjelma R kaikkeen laskentaan ja tulosten kuvaamise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-tiedosto: tiedostonhallintajärjestelmä taustadokumenteille ja muille tiedostoil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erveysvaikutusarvioinnin mallikaavio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4005000"/>
            <a:ext cx="82184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erveysvaikutus</a:t>
            </a:r>
            <a:r>
              <a:rPr b="0" lang="fi-FI" sz="2600" spc="-1" strike="noStrike" baseline="-25000">
                <a:solidFill>
                  <a:srgbClr val="000000"/>
                </a:solidFill>
                <a:latin typeface="Arial"/>
              </a:rPr>
              <a:t>i,j,k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~ Altistuminen</a:t>
            </a:r>
            <a:r>
              <a:rPr b="0" lang="fi-FI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* Annosvaste</a:t>
            </a:r>
            <a:r>
              <a:rPr b="0" lang="fi-FI" sz="26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* Taustasairastuvuus</a:t>
            </a:r>
            <a:r>
              <a:rPr b="0" lang="fi-FI" sz="2600" spc="-1" strike="noStrike" baseline="-25000">
                <a:solidFill>
                  <a:srgbClr val="000000"/>
                </a:solidFill>
                <a:latin typeface="Arial"/>
              </a:rPr>
              <a:t>j,k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* Väestön koko</a:t>
            </a:r>
            <a:r>
              <a:rPr b="0" lang="fi-FI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 = alt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 = sair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 = väestöryhm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6769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00720" y="259920"/>
            <a:ext cx="2664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Vaikutus-arviointi vaikutus-kaaviona (esimerkki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848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40360" y="4005000"/>
            <a:ext cx="27352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788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äivi Kauppila, Marja Liisa Räisänen ja Sari Myllyoja: Metallimalmikaivostoiminnan parhaat ympäristökäytännöt. Suomen Ympäristö 29/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Ympäristöstä aiheutuva tautikuorm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5280" y="1290600"/>
            <a:ext cx="763272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autikuorman syyosuudet (ympäristö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490760"/>
            <a:ext cx="914400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autikuorma eri maissa: ympäristöstä johtuva ja kaikk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neran keskeisiä kysymyksiä terveyden kannal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eskeiset päästöt metallikaivosten terveysvaikutuksiin liitty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öly ja savu (erityisesti pienhiukka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j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etall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eskeiset altistusreit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an kautta leviä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hja- ja pintaved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iten arvioidaan päästöt ennen toiminnan aloittamist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tä Minera-hanke tuottaa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hjeistusta terveys- ja ekologisten vaikutusarviointien tekemise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apausesimerkkejä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Laskentamalleja eri osa-alueiden määrälliseen arviointi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ahdollisuuden tehdä ja jakaa omia, tapauskohtaisia arviointej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ahdollisuuden kerätä arviointeihin liittyvää palautetta ja kommenttej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ikki tämä internetissä onli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488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000000"/>
                </a:solidFill>
                <a:latin typeface="Arial"/>
              </a:rPr>
              <a:t>Avoimuus ja jakaminen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4:27:14Z</dcterms:created>
  <dc:creator>Jouni Tuomisto</dc:creator>
  <dc:description/>
  <dc:language>en-US</dc:language>
  <cp:lastModifiedBy>ktluser</cp:lastModifiedBy>
  <dcterms:modified xsi:type="dcterms:W3CDTF">2012-02-09T09:51:43Z</dcterms:modified>
  <cp:revision>25</cp:revision>
  <dc:subject/>
  <dc:title>Avoin mallitus. Esimerkkinä liikenteen muutosten päästövaikutukset ja sairastuvuus</dc:title>
</cp:coreProperties>
</file>